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08D-A434-486D-AEBB-3CFCA6FA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EDC-93B6-4B5B-92AC-AC29EBBC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CAA-2B43-421A-9972-5537FDC2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79E8-13F7-4F4C-BE33-E107D2C4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BE0-60A9-4D93-8694-5357BBD0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0B5-2425-4F78-B9A8-2EF669D0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742C-2A73-40A0-94FA-A027CB60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99B-0F99-44FD-BDB1-C6D12C72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1EB-1988-4661-9C4B-DB2FE3C0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1D6-DE3B-4EE3-A5E6-A07597CD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171-4F1E-4836-B601-4CB41BE8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6FB-8F01-46A5-B4E6-1A26E4DEC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ABD8-20DE-400B-8C25-713D3DE3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40F-45FE-44FC-AD13-9D1B4919F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748-EB38-45F8-9C35-BC322B3A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FEE-83D3-4E0E-A007-6CF923CB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431C-2FFA-426E-83F3-4B557297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9FF-F27C-4CA1-82E9-8434EFEC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81D-BBA8-4428-B39A-FC42309F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DB5-7771-4CC3-BA13-D2814855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43F-3215-4AD9-9875-B5F937A3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F7E-D52F-47D8-A787-440A2ABA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89D-B3D1-4AC8-A709-A857FD6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F23-7101-4360-9225-B517AE9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A61-C656-4B2D-B935-4D247B2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B74-52DF-4085-8B3A-D4AD762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B9C-9086-4BD5-9313-B1D5D85B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977-CBEF-4355-8475-DC7F062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4C0-2ADC-4CA4-9D9E-C93D7C6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77F-25FA-4A85-8D57-FED7D1D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2771h100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5BC-BFC6-4F46-A5A0-A09CF486DDA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771h1009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uilding A 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makes a “good” collection of boo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81B-56A1-48C8-86DB-E994894E374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frican American Authors/Illustrato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oks that encourage understanding and appreciation of people of all cultures and the pursuit of “the American Dre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riend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Mildred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Young Landl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Walter Dean M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FC8C-7C2E-44FD-9B5A-A49FCA75A28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o Author/Illustrator for Entire Body of Work: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s Christian Andersen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uthor and one illustrator in recognition of an entire body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Paula Fox, Virginia Hamilton, Scott O’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s:  Mitsumasa Anno, Lisbeth Zw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r illustrator whose works have made a substantial and lasting contribution to children’s literature over a period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euss, Virginia Hamilton, E. B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ng a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069-2635-4CEE-8CC6-DFBBCC4F2195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Well-Rounded, Interesting Classroom Library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, realistic literature as well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ith different type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of vary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 and 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hose characters realistical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ict various cultural group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that meet students’ 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F46C-5A46-4E01-A527-CE8D84D5C8DD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cenario: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our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/exchange with another group to make BOTH of your collections b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select to improve your collection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2E8E-112C-445B-80FB-ACB21D9B0E1B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(character rise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atened to recognized/rewarded for g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01E3-9531-4FAE-B663-4A8CF57C2BA5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7B0-87A9-45C7-9927-FE49C324E1DA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types of texts require different ways of understanding and recalling the most important idea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rrativ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ositor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rrative Texts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F026-3D49-447B-9691-E5A5E9A8507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 narrative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ed on life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-oriented using dialogue and familiar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ritten in first, second, or third per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0C2-8BF9-4C70-B7B0-BB8BEAC41327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quality pie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ldren’s lit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books are in a high-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Grades 3-6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F99-5C7F-4BD5-A682-65BBC47A6BA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Purpose(s)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Provide an aesthetic expe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AFD9-1032-464F-A395-1E0C0752E634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character rises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threaten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 recognized/rewarded for good qualities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D7A-11C0-4702-B388-A23E4528746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Genres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B73-18DB-4D8B-9CC8-8AA27DE1BD0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Organization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y Grammar/Sto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A67-1F61-4951-BD3F-91AA318C419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ess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(characters, setting,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(ev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(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D515-8424-4F48-BA41-23B1A9474866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(antagonist/protagonist), setting, problem (conflict), initiat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s, crisis, rising action, climax, subplot, parallel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, falling action,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02A5-6D07-466D-BB13-D5AB2806B341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Expository Tex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f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formation [“Communicate information about the natural or social world” (Duke, 2000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non-text features, such as charts, pictures,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ntain captions with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 timeless verb constructions (“Tigers are strong animals”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differently than s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/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der/seq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umerative/li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s It Really That Eas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D46-C667-4B1E-9BF7-48B4F704663A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About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lassified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(1) they follow narrative structure, (2) they inform about people rather than “the natural or social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629B-B075-40CE-821A-62882543A95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Hybrid Text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wants to convey information about natural or social world, but does so in a way that is perhaps considered more humorous and enter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s elements of narrative and 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agic School Bus Series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Tree House B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B94-B31D-47C8-9BE9-24AC4C794557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5C5-453B-470F-AE5F-80EB82604437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cenario: 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our Classroom Librar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ood about your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ot so good about your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 might you want in your collec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Homework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Magic Tree Hous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qualities that make this a good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possibilities for cross-curricular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ook Activity 2 assignment on wiki and bring questions to class for Thurs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0B4-7B56-4C79-A0AE-2C1EF9AD7A1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8CD3-0FA6-458D-9C7A-B500D90B220B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TH Screenshot.png"/>
          <p:cNvPicPr/>
          <p:nvPr/>
        </p:nvPicPr>
        <p:blipFill>
          <a:blip r:embed="rId1"/>
          <a:stretch/>
        </p:blipFill>
        <p:spPr>
          <a:xfrm>
            <a:off x="641520" y="177840"/>
            <a:ext cx="786096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5C36-D51C-4F4D-9E7C-BBAD25C451C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makes a “good” classroom library? What kinds of books should you choose? 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CC7-315B-4B44-B06D-2CB2FA79EFA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Do We Recognize “Quality” Children’s literature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awareness &amp; empat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verse experiences and perspectives they can “label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joyable read that doesn’t overly teach or morali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how rather than te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the tru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ue to life characters with a human experi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od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ords, plot, characters, descrip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t together into a satisfying wh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que characters &amp; situ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retch thinking about possibil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7339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ildren’s Literature Award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9E2-0B17-474C-AB70-5792C7BF108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Book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Newber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k judged to be the mo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contribution to children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published in the U.S. during the previou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rah, Plain and 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Patricia MacLach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hipping Bo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id Fleisch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Louis Sa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utstanding example of Fiction and Non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Pop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Avi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ssing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Cynthia Ry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ction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journer Truth:  Ain’t I a Wo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atricia &amp; Fredrick McKiss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creen Shot 2014-09-29 at 9.48.45 PM.png"/>
          <p:cNvPicPr/>
          <p:nvPr/>
        </p:nvPicPr>
        <p:blipFill>
          <a:blip r:embed="rId1"/>
          <a:stretch/>
        </p:blipFill>
        <p:spPr>
          <a:xfrm>
            <a:off x="6705720" y="304920"/>
            <a:ext cx="225252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608-58D4-48B3-B266-4598BE5E909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9907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Illustrations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lph Caldecot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ed to the illustrato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istinguish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’s book published the previou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r Buckle and Glo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Peggy Rat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wl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ane Y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standing example of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dfather’s Jour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Alan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faro’s Beautiful Daugh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oh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creen Shot 2014-09-29 at 9.49.59 PM.png"/>
          <p:cNvPicPr/>
          <p:nvPr/>
        </p:nvPicPr>
        <p:blipFill>
          <a:blip r:embed="rId1"/>
          <a:stretch/>
        </p:blipFill>
        <p:spPr>
          <a:xfrm>
            <a:off x="6248520" y="152280"/>
            <a:ext cx="28954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4F4-98F7-4929-B34E-AAE1BD1D2E2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r “New Talent” in Children’s Writing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Reading Association Children’s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old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tters from Rif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young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eet Clara and the Freedom Qui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Deborah Hopkinson, Illustrated by James Ran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oklyn Br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Elizabeth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zra Jack Keats New Writer’s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ing new writer who has had six or fewer children’s book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 B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Faith Ring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51:40Z</dcterms:created>
  <dc:creator>SOE</dc:creator>
  <dc:description/>
  <dc:language>en-US</dc:language>
  <cp:lastModifiedBy>Julie Coiro</cp:lastModifiedBy>
  <dcterms:modified xsi:type="dcterms:W3CDTF">2014-10-06T12:07:08Z</dcterms:modified>
  <cp:revision>26</cp:revision>
  <dc:subject/>
  <dc:title>Choosing Quality Children’s Trade Books</dc:title>
</cp:coreProperties>
</file>